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0B4-209E-428E-981A-7AC6C549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E06-DD43-4137-8E06-AF1272A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8F9-3A18-4DA4-B5F5-0E81F9B1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747-73A5-45DB-8812-6880FA0D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C043-6E87-4B1F-8E29-B32C0EA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F6222-5B71-4CDC-9A50-32179D1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36A9-7C85-4A10-95C6-7224CE73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A18CB-23EF-4067-AFAE-83C0D811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6119-31B7-4261-9A03-6EA8018A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4ECA-41A3-4537-B5F9-8F9F541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A42B6-7B65-4EEC-B217-3C50343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600-8A3A-4FBA-90D9-F898CA2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FB2A-1BD1-4636-A309-8C3CEE1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5E73-552E-46CF-A226-91B900D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35A7-9674-4305-B124-82CD604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8DF5-EA4C-4F81-8BDC-EFE6069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A9DC5-F8C8-4C9A-88B6-75D711A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907-0EAF-4341-866B-818FEC3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C17-838E-41A3-91B7-B3639515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1BA-00A4-43E0-A5B3-7FD9EF1C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9B0-43F1-4092-8016-2128297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3C6-893C-4472-95F1-4E46076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2F2-FF66-4F32-B78E-7DD5A0F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8F1-EC17-4E1F-84CE-9C97E56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C01D-5961-4E5E-B439-189D92BA8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443-4192-41D5-BD7A-DBC55F86E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5f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Hola Españ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r kailey dalgau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46996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905120" cy="2019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4680" y="4114800"/>
            <a:ext cx="874800" cy="15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124080" y="4648320"/>
            <a:ext cx="222264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H="1">
            <a:off x="3809520" y="2133720"/>
            <a:ext cx="8384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67080" y="1523880"/>
            <a:ext cx="990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95680" y="1981080"/>
            <a:ext cx="8096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4 F or 10 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1960" y="4038480"/>
            <a:ext cx="990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0" y="3429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352680" y="3809880"/>
            <a:ext cx="7048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C or  59F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124080" y="342900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57800" y="4800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5943600" y="419076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72200" y="449568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24480" y="4800600"/>
            <a:ext cx="10764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5F or 13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2286000"/>
            <a:ext cx="1181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ce fresc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95880" y="30481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2666880"/>
            <a:ext cx="838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C or 58F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Hoy es…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inco Dia Pronos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600200"/>
            <a:ext cx="1447560" cy="44956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1219320" cy="4495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600200"/>
            <a:ext cx="1295640" cy="4495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447560" cy="4495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600200"/>
            <a:ext cx="144792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1600200"/>
            <a:ext cx="1447920" cy="4495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51460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051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36232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irco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6F or 31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5909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209680"/>
            <a:ext cx="12193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r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9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133720"/>
            <a:ext cx="12193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uvio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057400"/>
            <a:ext cx="1219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b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F or 3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22860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09680"/>
            <a:ext cx="1219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min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mbre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e fr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6F or 36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38680" y="3505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25909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7432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0481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2004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3526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2860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52388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3657600"/>
            <a:ext cx="10303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22:00Z</dcterms:created>
  <dc:creator>kdalgauer11</dc:creator>
  <dc:description/>
  <dc:language>en-US</dc:language>
  <cp:lastModifiedBy>Readington Township Board of Education</cp:lastModifiedBy>
  <dcterms:modified xsi:type="dcterms:W3CDTF">2009-05-12T16:11:16Z</dcterms:modified>
  <cp:revision>6</cp:revision>
  <dc:subject/>
  <dc:title>Hola Espana </dc:title>
</cp:coreProperties>
</file>